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ct" ContentType="image/x-pict"/>
  <Override PartName="/ppt/media/image9.png" ContentType="image/png"/>
  <Override PartName="/ppt/media/image11.emf" ContentType="image/x-emf"/>
  <Override PartName="/ppt/media/image7.pct" ContentType="image/x-pict"/>
  <Override PartName="/ppt/media/image8.pct" ContentType="image/x-pict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F2D-FAE9-4847-BC9A-15C94980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800-19ED-4446-9490-4C3AC3B3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CFE-A093-4F95-8ABE-15819843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79B-C717-4A53-8FF6-ECB336DC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1D18-7C7B-4613-8AF0-50E771F4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3130-2F53-40DB-9591-0961A350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D482-631B-49DA-BD59-E091B87D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D893-B8D3-437B-86A8-A2FA770E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23DC-A502-4CAD-9069-1FB44535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F5DA-A760-4855-A7A5-4E27D0D1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A3F-F562-43DD-867D-48F96A34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B23-A0F7-4432-8558-4CDFD460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4B00-1615-4171-A60F-74C82443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5AF-D692-4C16-BB09-A30B1834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DF2B-3D14-4E87-84DF-6AB1F97C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297B-B0B8-44A2-8D32-F5E3AF30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A9D0-7EA2-4FAD-9690-713D85CC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E2E-8C22-4B46-84DD-22BCBCF1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BDF-4FB3-4D84-A69D-DF13244F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B04-8A0E-44E6-8EF3-5656FF6D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914-656C-4F53-A6DF-F01CB5A9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97E-8F7A-4B5D-B933-DF57B7AA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305-E998-40D9-BD08-E5796CAC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3C7-DF76-43E2-9228-323EE507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5BC-4E9E-404B-B6A4-CB25602580C0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ACB6-AC8E-40E6-8CF3-55C87E05209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emf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nips.com/doc/3de229bc-87e1-44ea-afcc-69d28f87a877/Mythbusters-Theme-Song" TargetMode="External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>
            <a:alphaModFix amt="74000"/>
          </a:blip>
          <a:stretch/>
        </p:blipFill>
        <p:spPr>
          <a:xfrm>
            <a:off x="1905120" y="10666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a20"/>
                </a:solidFill>
                <a:latin typeface="Arial"/>
              </a:rPr>
              <a:t>Positive Behavior Intervention and Supports: Training the “Wildcat Wa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a20"/>
                </a:solidFill>
                <a:latin typeface="Arial"/>
              </a:rPr>
              <a:t>Forest Park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a20"/>
                </a:solidFill>
                <a:latin typeface="Arial"/>
              </a:rPr>
              <a:t>2008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131BE8-D0CA-4F61-BD6F-B2A0F1BAC020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PB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oad range of proactive, systematic, and individualized strategies for achieving important social and learning outcomes in safe and effective environments while preventing problem behavior with all students (Sugai, 200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BIS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ositive comments are required to negate one negative comment (Note:  The number of positive comments increases to every negative comment as the student moves through schoo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replace inappropriate behaviors with appropriat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ons and detentions don’t change studen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ity of students comply with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yramid of Inter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use the Pyramid of Interventions for the “academic side” of groups of students and individua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- Math lab, CA block, Student Behavior Plans, FHS tutors, After-School Homework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look at the “behavior side” of the pyramid for groups of students and individua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- Honor Level, house awards, quarterly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yramid of Inter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1944720"/>
            <a:ext cx="6629400" cy="468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read, 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swim, 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multiply, 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drive, 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 child does not know how to beh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ac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…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unis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(cont’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understand that behavioral skills are learned, it is necessary to teach expected behaviors as we would academic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tell a student, “Well you should have learned how to add in second grade.  I really can’t teach you how to add now in third gra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s for Teaching Behavi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what should be conducted in actual setting whenever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igh frequency, positive 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to all students by all adults in th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s to be embedded into subject area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examples and non-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practice examples but not non-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: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hings Are D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/Expectations for classroom and non-classroom settings (lunchroom, bus, bathroom, hallway, assemb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for reinforcing expecte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for responding to office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for meeting the needs of all students (The Pyramid of Interven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Acknowledgement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t to counse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ncipal’s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l ho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rent mee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ecial incenti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7-2008 (I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5 total ISS affecting 30 out of 617 students - 4.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6-2007 (I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4 total ISS affecting 39 out of 630 students - 6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7-2008 (O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9 total in 2007-08 affecting 36 out of 617 students - 5.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6-2007 (O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 algn="ctr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7 total OSS in 2006-07 affecting 51 out of 630 students - 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26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entions (2007-0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326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331 total lunch or after school deten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 Level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cognition per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 Slips (2007-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th grade (734 sl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th grade (426 sl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(1160 sl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rposes of Acknowledg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he teaching of expected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the behaviors we want to occur again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the influence of the students who are showing expected behaviors to encourage the students who ar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positive behaviors that can compete with problem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our school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itive interactions and rapport with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we can earn time back to teach and keep kids in the classroom where they can learn from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Behavioral Expec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1905120"/>
          <a:ext cx="7162920" cy="4802040"/>
        </p:xfrm>
        <a:graphic>
          <a:graphicData uri="http://schemas.openxmlformats.org/drawingml/2006/table">
            <a:tbl>
              <a:tblPr/>
              <a:tblGrid>
                <a:gridCol w="3429000"/>
                <a:gridCol w="3733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Re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k ques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e as n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at meeting on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FOO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g appropriate materials to mee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Respect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 cell phones “off” or to “vibrat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and make phone calls in areas outside of the meeting ro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 for communications with team members until team and break times or write 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bad41a"/>
                        </a:buClr>
                        <a:buSzPct val="120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 your full attention to the presenter/spea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tions at Forest Par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Used infraction form to group behavi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ldca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spo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spect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06072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y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>
            <a:alphaModFix amt="74000"/>
          </a:blip>
          <a:stretch/>
        </p:blipFill>
        <p:spPr>
          <a:xfrm>
            <a:off x="1905120" y="10666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a20"/>
                </a:solidFill>
                <a:latin typeface="Arial"/>
              </a:rPr>
              <a:t>Positive Behavior Intervention and Supports: Training the “Wildcat Wa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a20"/>
                </a:solidFill>
                <a:latin typeface="Arial"/>
              </a:rPr>
              <a:t>Forest Park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a20"/>
                </a:solidFill>
                <a:latin typeface="Arial"/>
              </a:rPr>
              <a:t>2008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981F822-28AD-4296-B0A7-F5E226D08B7C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ittee Findings Fro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7-08 FP Study Gr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consequences consistently, calmly, and human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e responsibl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sources for teachers to deal with mis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needed for improving behaviors in common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needs to be proactive, positive, and instru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ions that provide information (students need to be told what to do and how to do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parents positive comments (help build 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classroom management with students and post in class (include students in cre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for classroom management at in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reinforcers throughout the day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connections with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rposes of Acknowledg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nforce the teaching of new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the behaviors we want to occur again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ness the influence of the students who are showing expected behaviors to encourage the students who are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positive behaviors that can compete with problem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our school 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ositive interactions and rapport with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we can earn time back to teach and keep kids in the classroom where they can learn from 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 We Do I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based evidence on punitive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suggests that traditional school practices viewed as punishment, exacerbate and contribute to the problem of challenging behavior. 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of school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gue school rules and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or no positive consequences for appropriat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taff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consider and accommodate individual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yer, 1995; Mayer and Butterworth, 1997, 1981;  Nafpaktitis, Butterworth &amp; Hollingsworth,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actices”:  How Staff Interact with Stu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5 school-wide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room managed vs. office referr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s like we teach academics with Teach To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oment reminders/re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correct to “get” expec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 practice what we p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practice what we t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nowled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, intermittent, long-term reinforcements for expecte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s to ensure future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-te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 for non-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xpec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 of needed behavioral/academic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anation of Wildcat 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ed Behav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pecific Non-Classroom and Classroom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rooms, offices, common areas, hallways, lockers, bathrooms, gym, locker rooms, LMC, computer labs, lunchroom, bus, outside and in the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the “Curriculum” that will guide the teaching of expected behav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communication and creates common language among staff and between students and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rix of Behavi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rix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house teams/encore teams and work with current matr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should be added/deleted to matrix (15 minute time lim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out ideas and decide on changes (15 minutes) - Dot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ittee Findings Fro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7-08 FP Study Gr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 consequences consistently, calmly, and human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courage responsibl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resources for teachers to deal with mis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es needed for improving behaviors in common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 needs to be proactive, positive, and instru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rections that provide information (students need to be told what to do and how to do 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parents positive comments (help build rappo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classroom management with students and post in class (include students in crea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es for classroom management at in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itive reinforcers throughout the day for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ke connections with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cess for dealing with student discipline to ensure consistency building-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5555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55555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55555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parent contact and infraction sent to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re are behaviors that require immediate attention by administration - above a 5 pt offense/possible intervention based on a student behavio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room Managed vs. Office Managed Behavi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Managed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dance/Tardy - Inform parents on effect on academic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anity directed at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m che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tt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comp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r ste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ess code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5555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r hara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648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Managed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dance/Tardy/Tru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d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legal sub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anity directed at ad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disru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bal/Physical intim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ste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nic dress code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assment (including sex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67680" y="-5508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what we’ve never had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do what we’ve never d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ac A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19360" y="122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Behavior Intervention and Supports Committee Act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4560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Behavior Intervention and Supports Committee Action Plan (Cont’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46432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ding Good Directions . .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248520" cy="495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ecorating at Forest Pa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tear down the walls and start over or just do some redecorat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10080" y="3276720"/>
            <a:ext cx="2343240" cy="312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7800" y="639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25200" y="6399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thbusters about Forest Park Discipline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Honor Level System been elimi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nother new thing on my pl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going to take mor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reinforce what is already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re will be no more consequences for students in response to their poor behavioral cho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555555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 ttp://www.esnips.com/doc/3de229bc-87e1-44ea-afcc-69d28f87a877/Mythbusters-Theme-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118116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an WE Chang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 Behavi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By changing the way we do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what students should be doing instead of what they should not be doing (look for appropriate behaviors on infraction 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to reinforce positive behavioral choices (“Wildcat Way” sli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a comm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ositive connections with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2:28:26Z</dcterms:created>
  <dc:creator>Franklin</dc:creator>
  <dc:description/>
  <dc:language>en-US</dc:language>
  <cp:lastModifiedBy>Franklin</cp:lastModifiedBy>
  <cp:lastPrinted>2008-08-15T20:01:00Z</cp:lastPrinted>
  <dcterms:modified xsi:type="dcterms:W3CDTF">2008-08-28T01:07:37Z</dcterms:modified>
  <cp:revision>84</cp:revision>
  <dc:subject/>
  <dc:title>Positive Behavior Training</dc:title>
</cp:coreProperties>
</file>